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8CA-DCC4-42ED-943A-3F37AFEE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503-27C1-46F7-AADE-D1E7B290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9BF-27C3-4B01-BFF8-34DAB0FF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EF4-A138-44E4-B1AB-E95117B6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3A8A-1C45-4228-80C4-AE001E13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38E-EABE-4693-92C1-5F0DB4C4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1C5-33C9-4410-8F5E-8C6BBACF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2FB-CD4A-406A-8FBB-726EDD7A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3C42-5360-442B-8B7F-FAAA82C9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4D3-7A38-464F-9801-0ED0642D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603-51EC-489D-9F51-97DF381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885-44A1-4DCB-8B5A-6CEBDD4D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FE9D-EAC1-448C-87A3-75810EF7B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pearlsplp.wikispaces.com/" TargetMode="External"/><Relationship Id="rId4" Type="http://schemas.openxmlformats.org/officeDocument/2006/relationships/hyperlink" Target="mailto:sheryl@plpnetwork.com" TargetMode="External"/><Relationship Id="rId5" Type="http://schemas.openxmlformats.org/officeDocument/2006/relationships/hyperlink" Target="mailto:will@plpnetwork.com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earlsplp.wikispaces.com/" TargetMode="External"/><Relationship Id="rId3" Type="http://schemas.openxmlformats.org/officeDocument/2006/relationships/hyperlink" Target="http://pearlsplp.wikispaces.com/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62520" y="5494320"/>
          <a:ext cx="51814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494320"/>
                    <a:ext cx="5181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295280" y="228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Questions?  Concern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000160" y="1268280"/>
            <a:ext cx="51436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762120"/>
            <a:ext cx="640080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at do we hope to gai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at will we learn from each oth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at do we valu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o do we includ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o will take the lead roles? (coordinator, expert, librarian, for exampl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What sort of knowledge will we use, share and documen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ptions of Team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borativ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38080"/>
            <a:ext cx="52578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join 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our wiki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earlsplp.wikispaces.com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NING Inv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 out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you have joined you may have to log back 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300996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04920" y="1219320"/>
            <a:ext cx="6095880" cy="17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Our virtual collaboration space (wi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pearlsplp.wikispaces.com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446640"/>
            <a:ext cx="4114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ryl Nussbaum-Beach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sheryl@plpnetwor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Richardson</a:t>
            </a:r>
            <a:br>
              <a:rPr sz="2400"/>
            </a:b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5"/>
              </a:rPr>
              <a:t>will@plpnetwork.co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60" y="0"/>
            <a:ext cx="47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LP PEARLS Project Team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10280" y="2743200"/>
            <a:ext cx="1714680" cy="2914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99072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ease meet our non- public PEARLS school team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0" y="2971800"/>
            <a:ext cx="349236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0" y="0"/>
            <a:ext cx="47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LP PEARLS Project Team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62920" y="2971800"/>
            <a:ext cx="1714320" cy="291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990720"/>
            <a:ext cx="5029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ease meet our public PEARLS school team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895480" y="2666880"/>
            <a:ext cx="34610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962520" y="5494320"/>
          <a:ext cx="51814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494320"/>
                    <a:ext cx="5181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71600" y="838080"/>
            <a:ext cx="1828800" cy="22100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1295280"/>
            <a:ext cx="1752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all day workshops that build capacity, community and develop 2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entury ski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8380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523880"/>
            <a:ext cx="53316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838080"/>
            <a:ext cx="213372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14300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 meetings where teams meet, listen and then reflect in small grou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u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1523880"/>
            <a:ext cx="53352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685800"/>
            <a:ext cx="1828800" cy="243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990720"/>
            <a:ext cx="1828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we deepen understanding, network, share resources and grow as a community of pract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6681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3352680"/>
            <a:ext cx="3352680" cy="2210040"/>
          </a:xfrm>
          <a:prstGeom prst="rect">
            <a:avLst/>
          </a:prstGeom>
          <a:solidFill>
            <a:srgbClr val="3333cc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429000"/>
            <a:ext cx="32004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sional Learning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b embedded teams who meet f2f and work towards scale and alignment  of 2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 skills with school improvement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3200400"/>
            <a:ext cx="53352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2819520"/>
            <a:ext cx="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858000" y="3200400"/>
            <a:ext cx="53352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286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owerful Learning Practice Deliver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57200" y="3505320"/>
            <a:ext cx="1714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962520" y="5494320"/>
          <a:ext cx="51814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494320"/>
                    <a:ext cx="51814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295280" y="1840680"/>
            <a:ext cx="5943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20 school t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eam has a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Fellows to support th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supported by the Community Leader --Dean Share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f2f meeti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live curriculum s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collaboration in V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 around helping you design and deliver 21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entury lesson pl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11680" y="380880"/>
            <a:ext cx="251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ccff"/>
                </a:solidFill>
                <a:latin typeface="Arial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259056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-76320"/>
            <a:ext cx="655308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Arial"/>
              </a:rPr>
              <a:t>Collaborative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PEARL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iki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Del.icio.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llumi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724280" y="2514600"/>
            <a:ext cx="41086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280" y="1523880"/>
            <a:ext cx="7925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Arial"/>
              </a:rPr>
              <a:t>Knowledge: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derstanding of the transformative potential of Web 2.0 tools in a global perspective and context, and how those potentials can be realized in sch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Arial"/>
              </a:rPr>
              <a:t>Pedagogy: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nderstanding of the shifting learning literacies that the 21 Century demands and how those literacies inform teacher practice</a:t>
            </a: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Planned Outcomes</a:t>
            </a: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298520"/>
            <a:ext cx="868680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velopment of sustained professional learning networks for team members to begin experimenting and sharing with other team members and online colleagues from around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Sustainabilit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eation of long term plan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e vision forward in participating districts at the end of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Capacity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crease in the abilities and resources of individuals, teams and the community to manage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nned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9:48:02Z</dcterms:created>
  <dc:creator>Sheryl Nussbaum-Beach</dc:creator>
  <dc:description/>
  <dc:language>en-US</dc:language>
  <cp:lastModifiedBy>snbeach</cp:lastModifiedBy>
  <dcterms:modified xsi:type="dcterms:W3CDTF">2008-11-10T11:13:23Z</dcterms:modified>
  <cp:revision>7</cp:revision>
  <dc:subject/>
  <dc:title>PowerPoint Presentation</dc:title>
</cp:coreProperties>
</file>